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E7D2-3129-4264-B94A-590E6A22D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FA22-8B8F-4E7D-B547-52D6F2C0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E3F6-0EC2-46F9-8DCB-CC797CABF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7293-2B61-4F91-840C-CAD2DA19B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9117-2B1F-49E7-8ACA-5F8462F9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A4BB-78F2-4A2A-B304-FE32A633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7C57-35A6-465C-AFDC-6D208399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AB2F-CC65-40B4-A91E-8E0B2B5D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2FBB-21CD-4EC2-A6D1-5F78BF3E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AC0D-44CE-4A75-A4E5-60E0B4A2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E610-CBAF-4036-8FA3-3C401440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8F61-6A7C-40DC-AA8F-5ABFACB2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EC5F-3CC3-4CD7-949D-48D5769DCD9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386064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نسب المالية الشائعة الاستخدا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خام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904A-D652-4487-95B7-B250BCE80852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973920" y="1916280"/>
            <a:ext cx="358920" cy="1728720"/>
          </a:xfrm>
          <a:prstGeom prst="upDownArrow">
            <a:avLst>
              <a:gd name="adj1" fmla="val 50000"/>
              <a:gd name="adj2" fmla="val 95883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227664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06920" y="3679920"/>
            <a:ext cx="309744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بحية السهم العا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3139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 – توزيعات الأسهم الممتاز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توسط المرجح لعدد الاسهم العا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3822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974880" y="4076640"/>
            <a:ext cx="3381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192564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5318-5E5B-43B2-8342-2E67EA92A36C}" type="slidenum">
              <a:t>10</a:t>
            </a:fld>
          </a:p>
        </p:txBody>
      </p:sp>
    </p:spTree>
  </p:cSld>
  <p:transition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صافي الربح إلى الفوائ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 قبل الفوائد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وائد المستحق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مجموع الخصوم إلى    مجموع الأصو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خصو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أص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سداد الديون طويلة الأج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A3AB-2041-4D3F-A85B-A36CD3C9E341}" type="slidenum">
              <a:t>11</a:t>
            </a:fld>
          </a:p>
        </p:txBody>
      </p:sp>
    </p:spTree>
  </p:cSld>
  <p:transition>
    <p:random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مجموع الخصوم إلى    حقوق الملك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خصو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06920" y="4832280"/>
            <a:ext cx="331308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خصوم طويلة الأجل إلى    الخصوم طويلة الأجل مضافاً إليها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طويلة الأج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خصوم طويلة الأجل + حقوق الملكية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سداد الديون طويلة الأج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5B04-CC12-4106-9750-0701D3CF2946}" type="slidenum">
              <a:t>12</a:t>
            </a:fld>
          </a:p>
        </p:txBody>
      </p:sp>
    </p:spTree>
  </p:cSld>
  <p:transition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84280" y="1838520"/>
            <a:ext cx="177624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738840" y="1838520"/>
            <a:ext cx="174564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rmAutofit fontScale="92000"/>
          </a:bodyPr>
          <a:p>
            <a:pPr marL="315360" indent="-31536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 (سداد الالتزامات قصيرة الأجل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32720" y="3260880"/>
            <a:ext cx="1847880" cy="3146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تدا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سريع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نقد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3257640"/>
            <a:ext cx="2016000" cy="3124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المبيع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إجمالي الأص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بحية السهم العاد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08360" y="1793880"/>
            <a:ext cx="1764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الوفاء بالديون (طويلة الأجل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68840" y="3260880"/>
            <a:ext cx="1847880" cy="3146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ديون الى مجموع الاص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ديون إلى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تغطية الفائد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تغطية الاعباء الثابت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692280"/>
            <a:ext cx="78487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ff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نسب المالية الرئيس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2708280"/>
            <a:ext cx="142920" cy="433440"/>
          </a:xfrm>
          <a:prstGeom prst="downArrow">
            <a:avLst>
              <a:gd name="adj1" fmla="val 50000"/>
              <a:gd name="adj2" fmla="val 758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27687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81800" y="27687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279720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27280" y="1811160"/>
            <a:ext cx="17636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92720" y="27813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79760" y="3259080"/>
            <a:ext cx="1847880" cy="3146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أصول الثابت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6453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18252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7F26-671A-4ABD-9F03-3B73867FBF7E}" type="slidenum">
              <a:t>2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02000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899320" y="1477800"/>
            <a:ext cx="2676240" cy="56484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تدا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4360" y="90756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547280" y="1773360"/>
            <a:ext cx="237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سريع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 - 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262160" y="515772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04000" y="3043080"/>
            <a:ext cx="2700360" cy="77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100F-1BC6-458D-8584-F1F86A140D65}" type="slidenum">
              <a:t>3</a:t>
            </a:fld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09308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899320" y="1477800"/>
            <a:ext cx="2676240" cy="56484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نق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4360" y="90756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80000"/>
              </a:lnSpc>
              <a:spcBef>
                <a:spcPts val="201"/>
              </a:spcBef>
              <a:buNone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قدية في الصندوق والبنوك + استثمارات في اوراق مالي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406520" y="198900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أس المال العام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 – الخصوم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04000" y="3043080"/>
            <a:ext cx="2700360" cy="77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7267-5287-45F5-8F3D-311A63240853}" type="slidenum">
              <a:t>4</a:t>
            </a:fld>
          </a:p>
        </p:txBody>
      </p:sp>
    </p:spTree>
  </p:cSld>
  <p:transition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09308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69080" y="1447920"/>
            <a:ext cx="273672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صافي المبيعات الآج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صيد المدين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406520" y="1916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فترة التحصي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77440" y="515772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34AD-E4E8-48D2-81B1-880DE4414D54}" type="slidenum">
              <a:t>5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24360" y="1447920"/>
            <a:ext cx="273708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907920"/>
            <a:ext cx="403884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كلفة البضاعة المباع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صيد المخزو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186920" y="191628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6108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24360" y="4832280"/>
            <a:ext cx="280836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فترة التخز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4292640"/>
            <a:ext cx="403884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6108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186920" y="515772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10FE-9626-4F28-9B24-5435B8E4E5AA}" type="slidenum">
              <a:t>6</a:t>
            </a:fld>
          </a:p>
        </p:txBody>
      </p:sp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أصول المتداو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أصول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20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258920" y="1916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رأس المال العام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أس المال العام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258920" y="5183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D160-13F2-4500-BFAB-711C6C43FCE8}" type="slidenum">
              <a:t>7</a:t>
            </a:fld>
          </a:p>
        </p:txBody>
      </p:sp>
    </p:spTree>
  </p:cSld>
  <p:transition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المب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إجمالي الأصول (إجمالي الاستثما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إجمالي الأص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220C-0618-460A-A12D-1B685102A407}" type="slidenum">
              <a:t>8</a:t>
            </a:fld>
          </a:p>
        </p:txBody>
      </p:sp>
    </p:spTree>
  </p:cSld>
  <p:transition>
    <p:random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من النشاط الرئيس إلى صافي المبيعا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دخل من العمليات الرئيس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</a:t>
            </a:r>
            <a:br>
              <a:rPr sz="1800"/>
            </a:b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حقوق المساهم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4DF6-A34E-4AE8-8FC0-F343DDA6EC40}" type="slidenum">
              <a:t>9</a:t>
            </a:fld>
          </a:p>
        </p:txBody>
      </p:sp>
    </p:spTree>
  </p:cSld>
  <p:transition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08:19:27Z</dcterms:created>
  <dc:creator>**</dc:creator>
  <dc:description/>
  <dc:language>en-US</dc:language>
  <cp:lastModifiedBy>****</cp:lastModifiedBy>
  <dcterms:modified xsi:type="dcterms:W3CDTF">2003-12-07T23:54:56Z</dcterms:modified>
  <cp:revision>23</cp:revision>
  <dc:subject/>
  <dc:title>المؤشرات المالية</dc:title>
</cp:coreProperties>
</file>